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move the slid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BB16-46E4-42C9-A47D-46CD8B06D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3F21-7BA3-473D-9BD3-6B8931A1B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3D30-76C7-4D03-BD53-E2639B8D9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8B06-230E-465B-953D-F60A0EECB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140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23480" y="15235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140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23480" y="403092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3120" y="40309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3120" y="152352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03092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lick to edit the title text format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035000" indent="-228600">
              <a:spcBef>
                <a:spcPts val="60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808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720800" indent="-228600">
              <a:spcBef>
                <a:spcPts val="601"/>
              </a:spcBef>
              <a:buClr>
                <a:srgbClr val="ffcc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720800" indent="-228600">
              <a:spcBef>
                <a:spcPts val="601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8d8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90720" y="65214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RI International Bioinforma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3760" y="6553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63A9-8256-480D-9523-08F8B7C4F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477120"/>
            <a:ext cx="11430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: Recent Development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MOD Meeting, June 2006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23640"/>
            <a:ext cx="7696080" cy="4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Comparative Genome Brows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440" y="1228320"/>
            <a:ext cx="80010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ne master organism that anchors the comparis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Set of selected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ne gene of master organism directs the alignm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rtholog dblinks are followed to th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selected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Ortholog links can be bulk loaded (UG II 2.4.10.5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BioCyc uses best bi-directional BLAST hi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(from CMR), stored in a MySQL db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cc66"/>
                </a:solidFill>
                <a:latin typeface="Arial"/>
              </a:rPr>
              <a:t>Genes connected by ortholog links have same col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omparative Genome Brows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28800" y="963720"/>
            <a:ext cx="5864400" cy="5360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Pathway Comparis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24360" y="838080"/>
            <a:ext cx="36306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Pathway Comparison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371600" y="932040"/>
            <a:ext cx="6659640" cy="5392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cent Developments: Version 10.0, March 2006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dded support for Gene Ontolog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author crediting syste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23640"/>
            <a:ext cx="7696080" cy="4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3200" spc="-1" strike="noStrike">
                <a:solidFill>
                  <a:srgbClr val="ffcc66"/>
                </a:solidFill>
                <a:latin typeface="Stone Serif"/>
              </a:rPr>
              <a:t>Author Crediting Syste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747800"/>
            <a:ext cx="769608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r Pathways &amp; Enzy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ypes of Credit:  Created, Reviewed, Revis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18ffd"/>
              </a:buClr>
              <a:buSzPct val="4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ome Pages for Authors and Organiza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oming in Version 10.5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verview semantic zoomin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Generate metabolic post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pell checker within editing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ill use dictionary of biomedical term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sequence retrieval dialo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Hole filler will work under Window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ne-click pathway output to BioPAX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ound duplicate check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sistency checker available through GUI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New Overview Semantic Zooming Capabiliti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an enlarge overview diagram to show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rrowheads on reaction arrows (12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ubstrate names and pathway labels (20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nzyme, gene names (300%, but more readable at 400%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t 400%, you have a diagram suitable for poster printing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utomatic poster printing facility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 customize title, text, highlighting, etc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an custom build overview specifically for post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Include/exclude enzyme names, gene names, EC numb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hange font siz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Alter aspect rati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Unfortunately, overview diagram now takes longer to generate (approx 1 hour vs. several minutes)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Fragment of Overview at 200% Zoo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Fragment of Overview at 400% Zoom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915400" cy="5308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 Tools Software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oLogic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redicts operons, metabolic network, pathway hole fillers, from genom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putational creation of new Pathway/Genome Database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Editor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curation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istributed object database system, interactive editing tool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30040" indent="-23004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Pathway/Genome Navigato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WWW publishing of PGDB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Querying, visualization of pathways, chromosomes, oper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nalysis operations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 visualization of gene-expression data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10350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5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lobal comparisons of metabolic network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Using Overview Diagram for Global Querie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(Desktop Application)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69608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pecies Comparis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Highlight list of genes or reactions from fi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Variety of “canned” queri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See all connections from one or more selected metabolit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API to highlight based on user computation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an save highlights to (&amp; reload from) a human-readable fil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3767040"/>
            <a:ext cx="7051680" cy="255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Using Omics Viewer for Global Analys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how gene expression, proteomics, metabolomics dat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stomizable color schem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superimpose results of multiple datasets on single display, or show as anim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an also be used to show results of global computational analyses – anything that assigns a number to a gene, protein, reaction or substrate, or subdivides them into group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avigate from Omics Viewer to pathway displays to see omics data on a single pathwa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BioCyc Collection of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athway/Genome Database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Pathway/Genome Database (PGDB) –  combines information about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athways, reactions, substrate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nzymes, transporter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Genes, replic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ranscription factors/sites, promoters, operon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1: Literature-Derived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eta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EcoCyc  --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scherichia coli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K-12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2: Computationally-derived DBs, Some Curation  --  12 PG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HumanCyc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692280" indent="-2304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Mycobacterium tuberculosis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Tier 3: Computationally-derived DBs, No Curation  --  191 DBs</a:t>
            </a:r>
            <a:endParaRPr b="1" lang="en-US" sz="1800" spc="-1" strike="noStrike">
              <a:solidFill>
                <a:srgbClr val="ffcc66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143680" y="1781280"/>
            <a:ext cx="3771720" cy="428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PGDBs Created by External User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600+ licensees  --  50 groups applying software to 100+ organisms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Software freely available to academics; Each PGDB owned by its creator</a:t>
            </a: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Saccharomyces cerevisiae, SGD project, Stanford Universit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TAIR, Carnegie Institution of Washington       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dictyBase, Northwestern Universit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GrameneDB, Cold Spring Harbor Laboratory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Planned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CGD  (Candida albicans), Stanford University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MGD (Mouse), Jackson Laboratory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RGD (Rat), Medical College of Wisconsin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WormBase (</a:t>
            </a: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C. elegans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), Caltech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Large scale users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C. Medigue, Genoscope, 67 PGDB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G. Burger, U Montreal, 20 PGDB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cc66"/>
                </a:solidFill>
                <a:latin typeface="Arial"/>
              </a:rPr>
              <a:t>Selected others:</a:t>
            </a:r>
            <a:endParaRPr b="1" lang="en-US" sz="1600" spc="-1" strike="noStrike">
              <a:solidFill>
                <a:srgbClr val="ffcc66"/>
              </a:solidFill>
              <a:latin typeface="Arial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G. Church, Harvard, Prochlorococcus marinus MED4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Larimer/Uberbacher, ORNL, Shewanella onedensi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J. Keasling, UC Berkeley, Desulfovibrio vulgaris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50520" indent="-21636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8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Fiona Brinkman, Simon Fraser Univ, </a:t>
            </a:r>
            <a:r>
              <a:rPr b="0" i="1" lang="en-US" sz="1600" spc="-1" strike="noStrike">
                <a:solidFill>
                  <a:srgbClr val="ffffff"/>
                </a:solidFill>
                <a:latin typeface="Arial Narrow"/>
              </a:rPr>
              <a:t>Pseudomonas aeruginosa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Recent Developments: Version 9.5, September 2005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interfaces to Oracle and MySQ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ell Component Ontology (CCO) introduc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face to Marvin chemical structure edito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 ported to Window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athoLogic can use other organism PGDBs for pathway predic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ransport Inference Par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upport for detection and merging of duplicate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verview and Omics View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gnified views of pathways in Web Overview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isplay omics data on individual pathway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hoice of 3-color display or full spectru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able of pathways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verview and Omics Viewer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334120" cy="523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Omics Viewer – Table View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885960"/>
            <a:ext cx="7434360" cy="543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66"/>
                </a:solidFill>
                <a:latin typeface="Stone Serif"/>
              </a:rPr>
              <a:t>Cross-Species Comparative Operations</a:t>
            </a:r>
            <a:endParaRPr b="1" i="1" lang="en-US" sz="3200" spc="-1" strike="noStrike">
              <a:solidFill>
                <a:srgbClr val="ffcc66"/>
              </a:solidFill>
              <a:latin typeface="Stone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arative genome brows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ables comparing pathways, reactions, proteins, transcription units, metabolites across organism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618ff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ross-species comparison of individual pathways and reac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0:40:52Z</dcterms:created>
  <dc:creator>paley</dc:creator>
  <dc:description/>
  <dc:language>en-US</dc:language>
  <cp:lastModifiedBy>paley</cp:lastModifiedBy>
  <cp:lastPrinted>2001-07-11T22:04:59Z</cp:lastPrinted>
  <dcterms:modified xsi:type="dcterms:W3CDTF">2006-06-30T04:24:54Z</dcterms:modified>
  <cp:revision>8</cp:revision>
  <dc:subject/>
  <dc:title>Pathway Tools: Recent Developments and Comparative Operations</dc:title>
</cp:coreProperties>
</file>